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196-BC08-4529-99D2-E0E305E5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C13-031F-481D-801F-63A46C92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922-68F8-4E98-8DD2-B10C56E5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D0A-A37C-4030-A170-DAEF8A4E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A19-80F8-45EB-9DB0-580C8ADA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8A9A-5B6E-48D0-9A86-19F20B8D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B6A7-3836-4301-9196-2C8D0E5C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CC3-B2C1-43BA-BBD3-B80EBE76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98AB-5C7B-47C6-A9DB-2BC5C05A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4DE-EEDE-474E-81C6-6D9CA90F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0D0-9BE3-4863-9DF3-0506AC7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DF6-F55B-4773-A2D6-C4FD8A99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E7C1-C275-4DBE-91F5-C63B963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2F8-0B67-4C5C-9506-0B7D180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7162-EFAA-4066-AE0E-F368B91B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21A4-EF8E-4B55-AAE0-829ED417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072-C003-4FC1-9A9B-AAFD57F9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74-B2B7-4A3F-BDA1-01C28A2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32C-6741-40BC-B823-4DA2619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538-9E80-43CD-A420-E9FC75F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AE4-8C6C-4927-B319-397ACD7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7B2-70C8-4784-9DAF-8DF6CC6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16D-8D9D-476C-8171-56A41EB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7EE-2CF3-4117-A441-B4734CD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114F-978B-44BD-839B-24E6CDDFDA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EF5D-251D-48E8-B4A9-364F8E050F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nd.galegroup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Lauryn and Rachel Mone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Ozone Layer Deple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Ozone layer?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zo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atmospheric layer that helps shield life from ultraviolet radiation, which helps minimize the breakage of D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292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is it happen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lorofluorocarbons (CFCs), are chemicals that are emitted into the lower atmosphe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hemicals slowly penetrate into the stratosphere, where they then consume ozone molecu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all the depletion? </a:t>
            </a:r>
            <a:r>
              <a:rPr b="0" lang="en-US" sz="52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endParaRPr b="0" lang="en-US" sz="5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observed in the mid-1980’s, pollution is the factor causing ozone layer deple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s in air conditioning and cooling uni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erosol spray (hairspr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ning processes of electronical equip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9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5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7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ultraviolet radi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ltraviolet light is a form of electromagnetic radi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rm electromagnetic spectrum refers to all forms of energy transmitted by means of waves traveling at the speed of l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the radiation that causes tanning and sunburns and can lead to skin canc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43400" y="42372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eedman, Bill. "Ozone layer depletion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Gale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. Lee Lerner and Brenda Wilmoth Lerner. 4th ed. Detroit: Gale Group, 2008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&lt;http://find.galegroup.com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Ozone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World of Scientific Discov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imberley A. McGrath and Bridget Travers. Online ed. Detroit: Thomson Gale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</a:t>
            </a:r>
            <a:r>
              <a:rPr b="0" lang="en-US" sz="14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http://find.galegroup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Electromagnetic spectrum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XL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Rob Nagel. 2nd ed. Detroit: U*X*L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41:12Z</dcterms:created>
  <dc:creator>sasd</dc:creator>
  <dc:description/>
  <dc:language>en-US</dc:language>
  <cp:lastModifiedBy>sasd</cp:lastModifiedBy>
  <dcterms:modified xsi:type="dcterms:W3CDTF">2009-02-27T13:57:05Z</dcterms:modified>
  <cp:revision>24</cp:revision>
  <dc:subject/>
  <dc:title>Ozone Layer Depletion</dc:title>
</cp:coreProperties>
</file>